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D63-B244-43C8-A9A6-BF0465C258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772-2B7D-4DB1-9925-877B584CB8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itaminas especificidad fad g prostetico nad co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DD1-5B3A-4C61-B769-C74E6492F5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iviada de enzimas gást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3B69-FB4C-475E-AE8A-9DF7B10C75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C6F-6075-45CF-A74C-5BF9F88C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2B7-6049-4B28-BDC8-CBC662F0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ACF-348C-4715-A27B-41A6ACE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DC8-AC53-45F9-9DE1-5370FAE1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9A1-40EC-4CCE-94A5-EB91855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0CB-306E-47D8-901E-958A1FD5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68-8570-46DB-9980-4203F75C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3F2-4067-4C42-914E-4D0BB19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994-D260-42D1-B1D5-F05A94B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263-C40D-4142-8C6C-FDD8C50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8D6-B58E-4E2F-91F0-2BD2A56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BA8-ECAE-44B6-99E6-4D70DF0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841-57A5-4A42-8145-E81E6F61EC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0" y="33336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BOLILLA 1: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ntroducción: Nomenclatura y clasific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Determinación de la actividad enzimática. Unidad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mplejo enzima-sustrato. Sitio activo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inética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Factores que modifican la actividad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Tipos de Inhibicion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 alostéricas. Propiedades y ciné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ntrol por proteínas: activación proteolí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Modulación covalente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so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 de la expresión génica: represión e inducción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 de texto 4"/>
          <p:cNvSpPr/>
          <p:nvPr/>
        </p:nvSpPr>
        <p:spPr>
          <a:xfrm>
            <a:off x="2465280" y="3078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Cuadro de texto 5"/>
          <p:cNvSpPr/>
          <p:nvPr/>
        </p:nvSpPr>
        <p:spPr>
          <a:xfrm>
            <a:off x="360360" y="836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Unión Internacional de Bioquímica y Biología Molecular (IUBMB)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ángulo 7"/>
          <p:cNvSpPr/>
          <p:nvPr/>
        </p:nvSpPr>
        <p:spPr>
          <a:xfrm>
            <a:off x="71280" y="1775160"/>
            <a:ext cx="900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Se asigna a </a:t>
            </a:r>
            <a:r>
              <a:rPr b="1" lang="es-AR" sz="1800" spc="-1" strike="noStrike">
                <a:solidFill>
                  <a:srgbClr val="ffffff"/>
                </a:solidFill>
                <a:latin typeface="Comic Sans MS"/>
              </a:rPr>
              <a:t>cada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enzima un nombre descriptivo y u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núm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que permite identificarla inequívocam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Cuadro de texto 10"/>
          <p:cNvSpPr/>
          <p:nvPr/>
        </p:nvSpPr>
        <p:spPr>
          <a:xfrm>
            <a:off x="360360" y="3716280"/>
            <a:ext cx="85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Hexoquin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ATP: glucosa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ódigo de 4 dígit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2.7.1.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2: 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clase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7: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sub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1: fosfotransferasa con un grupo hidroxilo como acept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° de orden de la enzima en su subclase 1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glucosa como aceptor del grupo fosf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Imagen 11" descr=""/>
          <p:cNvPicPr/>
          <p:nvPr/>
        </p:nvPicPr>
        <p:blipFill>
          <a:blip r:embed="rId1"/>
          <a:stretch/>
        </p:blipFill>
        <p:spPr>
          <a:xfrm>
            <a:off x="2303640" y="2781360"/>
            <a:ext cx="4536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1"/>
          <a:stretch/>
        </p:blipFill>
        <p:spPr>
          <a:xfrm>
            <a:off x="826920" y="0"/>
            <a:ext cx="7791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250920" y="404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OXIDORREDUCT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HIDROGENASAS, OXIDASAS, OXIGENASAS, REDUCTASAS, PEROXID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TRANSF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TRANSCARBOXILASAS, TRANSMETILASAS Y TRAN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HIDROL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STERASAS, FOSFATASAS, PEPTID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CARBOXILASAS, HIDRATASAS, DESHIDRATASAS, DE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5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SOM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PIMERASAS, MUT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G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SINTETASAS, CARBOXIL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0" y="11592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FACTORE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gún su modo de interacción con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ENZIM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ión laxa a la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ctuaría como co-sustra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n moléculas orgánicas pequeñ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uchas se encuentran libres y solo se unen a la enzima en el momento de la catál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GRUPO PROSTÉT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olécula orgánica no prote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une fuertemente a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lo se separa por desnaturaliz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ONES INORGÁN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niones - cati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uadro de texto 5"/>
          <p:cNvSpPr/>
          <p:nvPr/>
        </p:nvSpPr>
        <p:spPr>
          <a:xfrm>
            <a:off x="219564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FACTO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Cuadro de texto 6"/>
          <p:cNvSpPr/>
          <p:nvPr/>
        </p:nvSpPr>
        <p:spPr>
          <a:xfrm>
            <a:off x="236520" y="1413000"/>
            <a:ext cx="89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ones inorgánicos:  Fe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g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n 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 Zn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upo 12"/>
          <p:cNvGrpSpPr/>
          <p:nvPr/>
        </p:nvGrpSpPr>
        <p:grpSpPr>
          <a:xfrm>
            <a:off x="677880" y="3139920"/>
            <a:ext cx="7362360" cy="1620720"/>
            <a:chOff x="677880" y="3139920"/>
            <a:chExt cx="7362360" cy="1620720"/>
          </a:xfrm>
        </p:grpSpPr>
        <p:sp>
          <p:nvSpPr>
            <p:cNvPr id="83" name="Cuadro de texto 13"/>
            <p:cNvSpPr/>
            <p:nvPr/>
          </p:nvSpPr>
          <p:spPr>
            <a:xfrm>
              <a:off x="677880" y="3139920"/>
              <a:ext cx="2605320" cy="9324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HOLOENZIMA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 =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Enzima total                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Cuadro de texto 14"/>
            <p:cNvSpPr/>
            <p:nvPr/>
          </p:nvSpPr>
          <p:spPr>
            <a:xfrm>
              <a:off x="3283200" y="3160080"/>
              <a:ext cx="2389320" cy="16005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APOENZIMA 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+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Proteín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lábil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dializ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Cuadro de texto 15"/>
            <p:cNvSpPr/>
            <p:nvPr/>
          </p:nvSpPr>
          <p:spPr>
            <a:xfrm>
              <a:off x="5869440" y="3160080"/>
              <a:ext cx="2170800" cy="137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COENZIM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proteínic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establ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" name="1 CuadroTexto"/>
          <p:cNvSpPr/>
          <p:nvPr/>
        </p:nvSpPr>
        <p:spPr>
          <a:xfrm>
            <a:off x="335880" y="242100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n el caso de la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ENZIMAS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se forma un complej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187200" y="5084640"/>
            <a:ext cx="87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xidorreductasas, transferasas, isomerasas y ligasas requieren co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 de texto 4"/>
          <p:cNvSpPr/>
          <p:nvPr/>
        </p:nvSpPr>
        <p:spPr>
          <a:xfrm>
            <a:off x="125568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ángulo 5"/>
          <p:cNvSpPr/>
          <p:nvPr/>
        </p:nvSpPr>
        <p:spPr>
          <a:xfrm>
            <a:off x="468360" y="28159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LOCALIZACIÓN INTRACELULA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Imagen 7" descr="cuatro"/>
          <p:cNvPicPr/>
          <p:nvPr/>
        </p:nvPicPr>
        <p:blipFill>
          <a:blip r:embed="rId1"/>
          <a:srcRect l="3914" t="2571" r="6168" b="6420"/>
          <a:stretch/>
        </p:blipFill>
        <p:spPr>
          <a:xfrm>
            <a:off x="4284720" y="1125360"/>
            <a:ext cx="410364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4"/>
          <p:cNvSpPr/>
          <p:nvPr/>
        </p:nvSpPr>
        <p:spPr>
          <a:xfrm>
            <a:off x="125892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Cuadro de texto 5"/>
          <p:cNvSpPr/>
          <p:nvPr/>
        </p:nvSpPr>
        <p:spPr>
          <a:xfrm>
            <a:off x="395280" y="112536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AC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gión de la molécu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nzimática a la que se une el sustrato por uniones no covalentes (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uente de hidrógeno, hidrofóbicas, electrostáticas)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agrupación de un número no muy grande de aminoácidos distribuidos espacialmente de manera preci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Imagen 7" descr="uno"/>
          <p:cNvPicPr/>
          <p:nvPr/>
        </p:nvPicPr>
        <p:blipFill>
          <a:blip r:embed="rId1"/>
          <a:stretch/>
        </p:blipFill>
        <p:spPr>
          <a:xfrm>
            <a:off x="838080" y="4297320"/>
            <a:ext cx="7394760" cy="219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7772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7" name="1 CuadroTexto"/>
          <p:cNvSpPr/>
          <p:nvPr/>
        </p:nvSpPr>
        <p:spPr>
          <a:xfrm>
            <a:off x="7558200" y="2133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476640" y="205596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de unión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3 CuadroTexto"/>
          <p:cNvSpPr/>
          <p:nvPr/>
        </p:nvSpPr>
        <p:spPr>
          <a:xfrm>
            <a:off x="555840" y="3289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catalítico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5159880" y="1763640"/>
            <a:ext cx="35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Hipótesis de Fischer: estructuras rígida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4087800" y="378288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Hipótesis de Koshland: estructuras adaptab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189000"/>
            <a:ext cx="8928000" cy="62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A fines del siglo XVIII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: catalizadores en estudios de la digestión de la carne por secreciones del estómag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ouis Pasteur, 1850 (fermentos –azúcar </a:t>
            </a:r>
            <a:r>
              <a:rPr b="0" lang="es-E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alcohol- de la levadur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duard Buchner, 1897 (levaduras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Fredrick Kühne fue el primero en llamar a los fermentos: </a:t>
            </a:r>
            <a:r>
              <a:rPr b="0" lang="es-ES" sz="22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ames Summer, 1926 (ureas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ohn Northrop y Moses Kunitz, 1930 (pepsina, tripsina y quimotripsin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Estructura y funció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3: 1º Secuencia de aminoácidos de la ribonucleasa pancreática bovina 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5: 1º Estructura por RX de la Lisozima de clara de huevo de gallin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mic Sans MS"/>
              </a:rPr>
              <a:t>1983: Sidney Altman y Col. observaron que el RNA de la ribonucleasa  tiene actividad catalític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uadro de texto 5"/>
          <p:cNvSpPr/>
          <p:nvPr/>
        </p:nvSpPr>
        <p:spPr>
          <a:xfrm>
            <a:off x="971640" y="220500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Cuadro de texto 6"/>
          <p:cNvSpPr/>
          <p:nvPr/>
        </p:nvSpPr>
        <p:spPr>
          <a:xfrm>
            <a:off x="539640" y="189000"/>
            <a:ext cx="83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ZIMÓGEN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Algunas enzimas se sintetizan en la célula de origen al estado de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ECURSORES INACTIV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llamado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zimógen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oen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eenzimas.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Ej: Enzimas digestiv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Cuadro de texto 7"/>
          <p:cNvSpPr/>
          <p:nvPr/>
        </p:nvSpPr>
        <p:spPr>
          <a:xfrm>
            <a:off x="158760" y="2205000"/>
            <a:ext cx="8748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SISTEMAS MULTIENZIMÁT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Varias enzimas diferentes cuyas acciones se complementa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Está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ordenad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, generalmente en membranas, de modo que el producto de la reacción catalizada por la primera enzima es recibido como sustrato por la segunda y así sucesivamen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transformaciones se producen según la secuencia establecida por la disposición espacial de los catalizadore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. Ej: Cadena Respirato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Cuadro de texto 8"/>
          <p:cNvSpPr/>
          <p:nvPr/>
        </p:nvSpPr>
        <p:spPr>
          <a:xfrm>
            <a:off x="192240" y="5300640"/>
            <a:ext cx="86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ENZIMAS MULTIFUNC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resentan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varios sitios catalí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distintos en una misma cadena polipeptídica.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: ácido graso sint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Rectángulo"/>
          <p:cNvSpPr/>
          <p:nvPr/>
        </p:nvSpPr>
        <p:spPr>
          <a:xfrm>
            <a:off x="27000" y="692280"/>
            <a:ext cx="9036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Catálisis enzimá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células y organismos vivos deben realizar distintos tipos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para permanecer vivos y reproduci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síntesis continua de componentes celulares requiere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quím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acumulación y retención de sales contra un gradiente de concentración implica la realización de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osmót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contracción muscular o el movimiento bacteriano representa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mecán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CuadroTexto"/>
          <p:cNvSpPr/>
          <p:nvPr/>
        </p:nvSpPr>
        <p:spPr>
          <a:xfrm>
            <a:off x="324000" y="76500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Determinación de la actividad enzimá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puede determinar, midiend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a cantidad de producto form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O de sustrato consumi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n un tiempo d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o una sumatoria de todos los factores requeridos para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326880" y="76500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CTIVIDAD ESPECÍF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expresión que indica la pureza relativa de una preparación enzimát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Relaciona Actividad Enzimática, no con el volumen de muestra, sino con el total de proteínas existentes en la misma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define com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NIDADES DE ENZIMA POR MG DE PROTEÍNAS PRESENTES EN LA MUEST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ángulo 4"/>
          <p:cNvSpPr/>
          <p:nvPr/>
        </p:nvSpPr>
        <p:spPr>
          <a:xfrm>
            <a:off x="1249200" y="189000"/>
            <a:ext cx="6851880" cy="72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CTIVIDAD ENZIMA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Cuadro de texto 6"/>
          <p:cNvSpPr/>
          <p:nvPr/>
        </p:nvSpPr>
        <p:spPr>
          <a:xfrm>
            <a:off x="468360" y="1414440"/>
            <a:ext cx="835164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Unidades Internacional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antidad de enzima que cataliza la transformación de 1 </a:t>
            </a:r>
            <a:r>
              <a:rPr b="1" lang="el-GR" sz="2400" spc="-1" strike="noStrike">
                <a:solidFill>
                  <a:srgbClr val="ffffff"/>
                </a:solidFill>
                <a:latin typeface="Comic Sans MS"/>
              </a:rPr>
              <a:t>μ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l (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mol) de Sustrato por minu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ustrato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oduc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Grupo 7"/>
          <p:cNvGrpSpPr/>
          <p:nvPr/>
        </p:nvGrpSpPr>
        <p:grpSpPr>
          <a:xfrm>
            <a:off x="1973160" y="4653000"/>
            <a:ext cx="5333760" cy="1116360"/>
            <a:chOff x="1973160" y="4653000"/>
            <a:chExt cx="5333760" cy="1116360"/>
          </a:xfrm>
        </p:grpSpPr>
        <p:sp>
          <p:nvSpPr>
            <p:cNvPr id="112" name="Cuadro de texto 8"/>
            <p:cNvSpPr/>
            <p:nvPr/>
          </p:nvSpPr>
          <p:spPr>
            <a:xfrm>
              <a:off x="1973160" y="5028840"/>
              <a:ext cx="15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.I. =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Cuadro de texto 9"/>
            <p:cNvSpPr/>
            <p:nvPr/>
          </p:nvSpPr>
          <p:spPr>
            <a:xfrm>
              <a:off x="3188160" y="4653000"/>
              <a:ext cx="41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l de S transformado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Cuadro de texto 10"/>
            <p:cNvSpPr/>
            <p:nvPr/>
          </p:nvSpPr>
          <p:spPr>
            <a:xfrm>
              <a:off x="4405680" y="530964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uto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Línea 11"/>
            <p:cNvSpPr/>
            <p:nvPr/>
          </p:nvSpPr>
          <p:spPr>
            <a:xfrm>
              <a:off x="3283200" y="5214600"/>
              <a:ext cx="40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1 CuadroTexto"/>
          <p:cNvSpPr/>
          <p:nvPr/>
        </p:nvSpPr>
        <p:spPr>
          <a:xfrm>
            <a:off x="11160" y="6237360"/>
            <a:ext cx="87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iempre bajo condiciones definidas de pH y temperatu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18" name="1 CuadroTexto"/>
          <p:cNvSpPr/>
          <p:nvPr/>
        </p:nvSpPr>
        <p:spPr>
          <a:xfrm>
            <a:off x="3351600" y="29829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(mol/se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324000" y="90792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Para todo esto, los seres vivos requieren y utilizan la energía de su entorn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La cantidad de energía realmente transformable en trabajo se denomina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lib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y ésta siempre será ligeramente inferior a la variación de </a:t>
            </a: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total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, ya que una parte de la misma se disipa en forma de ca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a variación de energía libre (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ergía de Gib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 una reacción química es una expresión cuantitativa de lo lejos que se encuentra el sistema del equilibrio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que liberan energía libre se denomina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x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ado que los productos de estas reacciones tienen menor energía libre que los reactivos,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nega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en las que los productos poseen mayor energía libre que los reactivos so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d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posi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n 2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36920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CuadroTexto"/>
          <p:cNvSpPr/>
          <p:nvPr/>
        </p:nvSpPr>
        <p:spPr>
          <a:xfrm>
            <a:off x="157320" y="333360"/>
            <a:ext cx="89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estado de transi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barrera de activa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, representa los cambios que se generan en la molécula del 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s barreras de activación son importantes para la estabilidad de las bi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por esto que las reacciones sin catalizar tienden a ser muy lent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moléculas biológicas son muy estables al pH neutro, temperatura suave y ambiente acuoso en el interior de las cél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reacciones químicas celulares se llevan a cabo porque las enzimas actúan disminuyendo la barrera energética entre el S y el 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 de texto 5"/>
          <p:cNvSpPr/>
          <p:nvPr/>
        </p:nvSpPr>
        <p:spPr>
          <a:xfrm>
            <a:off x="2087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 - FUNCIÓ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Cuadro de texto 6"/>
          <p:cNvSpPr/>
          <p:nvPr/>
        </p:nvSpPr>
        <p:spPr>
          <a:xfrm>
            <a:off x="324000" y="8287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los seres vivos se producen reacciones químicas para: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Cuadro de texto 7"/>
          <p:cNvSpPr/>
          <p:nvPr/>
        </p:nvSpPr>
        <p:spPr>
          <a:xfrm>
            <a:off x="0" y="1525680"/>
            <a:ext cx="91440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nsformar los nutrientes de los alimentos para obtener energí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ransformar nutrientes simples en moléculas complejas y vicever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Obtener materia prima para la síntesis de nuevas molécula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gradar componentes celulares una vez cumplida su vida úti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traer energía desde combustibles por oxidación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limerizar subunidades para formar macr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ángulo 4"/>
          <p:cNvSpPr/>
          <p:nvPr/>
        </p:nvSpPr>
        <p:spPr>
          <a:xfrm>
            <a:off x="538200" y="258840"/>
            <a:ext cx="8066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ángulo 6"/>
          <p:cNvSpPr/>
          <p:nvPr/>
        </p:nvSpPr>
        <p:spPr>
          <a:xfrm>
            <a:off x="538200" y="127152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antidad saturante de sustrato, pH y T°C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" name="Grupo 13"/>
          <p:cNvGrpSpPr/>
          <p:nvPr/>
        </p:nvGrpSpPr>
        <p:grpSpPr>
          <a:xfrm>
            <a:off x="476280" y="2637000"/>
            <a:ext cx="5247720" cy="3784320"/>
            <a:chOff x="476280" y="2637000"/>
            <a:chExt cx="5247720" cy="3784320"/>
          </a:xfrm>
        </p:grpSpPr>
        <p:grpSp>
          <p:nvGrpSpPr>
            <p:cNvPr id="126" name="Grupo 7"/>
            <p:cNvGrpSpPr/>
            <p:nvPr/>
          </p:nvGrpSpPr>
          <p:grpSpPr>
            <a:xfrm>
              <a:off x="976680" y="2835000"/>
              <a:ext cx="4041360" cy="3085560"/>
              <a:chOff x="976680" y="2835000"/>
              <a:chExt cx="4041360" cy="3085560"/>
            </a:xfrm>
          </p:grpSpPr>
          <p:sp>
            <p:nvSpPr>
              <p:cNvPr id="127" name="Línea 8"/>
              <p:cNvSpPr/>
              <p:nvPr/>
            </p:nvSpPr>
            <p:spPr>
              <a:xfrm flipV="1">
                <a:off x="976680" y="2835000"/>
                <a:ext cx="0" cy="308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ínea 9"/>
              <p:cNvSpPr/>
              <p:nvPr/>
            </p:nvSpPr>
            <p:spPr>
              <a:xfrm>
                <a:off x="976680" y="5881680"/>
                <a:ext cx="4041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Línea 10"/>
              <p:cNvSpPr/>
              <p:nvPr/>
            </p:nvSpPr>
            <p:spPr>
              <a:xfrm flipV="1">
                <a:off x="976680" y="3451680"/>
                <a:ext cx="3650400" cy="246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0" name="Cuadro de texto 11"/>
            <p:cNvSpPr/>
            <p:nvPr/>
          </p:nvSpPr>
          <p:spPr>
            <a:xfrm>
              <a:off x="476280" y="2637000"/>
              <a:ext cx="243360" cy="31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Comic Sans MS"/>
                </a:rPr>
                <a:t>ACTIVIDAD  ENZIMÁTICA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Cuadro de texto 12"/>
            <p:cNvSpPr/>
            <p:nvPr/>
          </p:nvSpPr>
          <p:spPr>
            <a:xfrm>
              <a:off x="2579760" y="6144840"/>
              <a:ext cx="31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Comic Sans MS"/>
                </a:rPr>
                <a:t>CONCENTRACIÓN DE ENZIMA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1 CuadroTexto"/>
          <p:cNvSpPr/>
          <p:nvPr/>
        </p:nvSpPr>
        <p:spPr>
          <a:xfrm>
            <a:off x="5724360" y="2475000"/>
            <a:ext cx="341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 establece la relación ent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antidad y Actividad de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Velocidad de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rectamente proporcional a la 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ángulo 5"/>
          <p:cNvSpPr/>
          <p:nvPr/>
        </p:nvSpPr>
        <p:spPr>
          <a:xfrm>
            <a:off x="1025280" y="141156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TEMPERATU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Imagen 7" descr="seis"/>
          <p:cNvPicPr/>
          <p:nvPr/>
        </p:nvPicPr>
        <p:blipFill>
          <a:blip r:embed="rId1"/>
          <a:srcRect l="5030" t="6583" r="4464" b="6536"/>
          <a:stretch/>
        </p:blipFill>
        <p:spPr>
          <a:xfrm>
            <a:off x="2268360" y="2071800"/>
            <a:ext cx="4680000" cy="45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1 CuadroTexto"/>
          <p:cNvSpPr/>
          <p:nvPr/>
        </p:nvSpPr>
        <p:spPr>
          <a:xfrm>
            <a:off x="3062880" y="260496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Temperatur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ópti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37" name="4 Conector angular"/>
          <p:cNvCxnSpPr/>
          <p:nvPr/>
        </p:nvCxnSpPr>
        <p:spPr>
          <a:xfrm flipH="1" rot="16200000">
            <a:off x="4014720" y="3375720"/>
            <a:ext cx="465840" cy="216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" name="5 CuadroTexto"/>
          <p:cNvSpPr/>
          <p:nvPr/>
        </p:nvSpPr>
        <p:spPr>
          <a:xfrm>
            <a:off x="5152320" y="140796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[S], pH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n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3549600" y="22050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H óptim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2 CuadroTexto"/>
          <p:cNvSpPr/>
          <p:nvPr/>
        </p:nvSpPr>
        <p:spPr>
          <a:xfrm>
            <a:off x="3597840" y="52862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1 CuadroTexto"/>
          <p:cNvSpPr/>
          <p:nvPr/>
        </p:nvSpPr>
        <p:spPr>
          <a:xfrm>
            <a:off x="1141560" y="573264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PH ÓPTIMO ES AQUEL EN EL CUAL EL ESTADO DE DISOCIACIÓN DE LOS GRUPOS ESENCIALES ES EL MÁS APROPIADO PARA INTERACCIONAR EN EL COMPLEJO 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5219640" y="2033640"/>
            <a:ext cx="331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771480" y="13402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FECTO DEL p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Imagen 7" descr="cinco"/>
          <p:cNvPicPr/>
          <p:nvPr/>
        </p:nvPicPr>
        <p:blipFill>
          <a:blip r:embed="rId1"/>
          <a:srcRect l="7214" t="7198" r="5065" b="8305"/>
          <a:stretch/>
        </p:blipFill>
        <p:spPr>
          <a:xfrm>
            <a:off x="2124000" y="1916280"/>
            <a:ext cx="5040360" cy="48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1 CuadroTexto"/>
          <p:cNvSpPr/>
          <p:nvPr/>
        </p:nvSpPr>
        <p:spPr>
          <a:xfrm>
            <a:off x="4387320" y="133200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T°C, [S]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Imagen 5" descr=""/>
          <p:cNvPicPr/>
          <p:nvPr/>
        </p:nvPicPr>
        <p:blipFill>
          <a:blip r:embed="rId1"/>
          <a:stretch/>
        </p:blipFill>
        <p:spPr>
          <a:xfrm>
            <a:off x="538200" y="2421000"/>
            <a:ext cx="4919760" cy="3930480"/>
          </a:xfrm>
          <a:prstGeom prst="rect">
            <a:avLst/>
          </a:prstGeom>
          <a:ln w="0">
            <a:noFill/>
          </a:ln>
        </p:spPr>
      </p:pic>
      <p:sp>
        <p:nvSpPr>
          <p:cNvPr id="150" name="Rectángulo 6"/>
          <p:cNvSpPr/>
          <p:nvPr/>
        </p:nvSpPr>
        <p:spPr>
          <a:xfrm>
            <a:off x="1946880" y="12704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L SUSTRAT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2818080" y="184464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pH, T°C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2 CuadroTexto"/>
          <p:cNvSpPr/>
          <p:nvPr/>
        </p:nvSpPr>
        <p:spPr>
          <a:xfrm>
            <a:off x="2480760" y="45813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urva hiperból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3" name="4 Conector angular"/>
          <p:cNvCxnSpPr/>
          <p:nvPr/>
        </p:nvCxnSpPr>
        <p:spPr>
          <a:xfrm rot="10800000">
            <a:off x="1546920" y="4903200"/>
            <a:ext cx="963000" cy="18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5 CuadroTexto"/>
          <p:cNvSpPr/>
          <p:nvPr/>
        </p:nvSpPr>
        <p:spPr>
          <a:xfrm>
            <a:off x="5580000" y="254628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Reacción de primer orden: existe proporcionalidad entre velocidad y [S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ángulo 5"/>
          <p:cNvSpPr/>
          <p:nvPr/>
        </p:nvSpPr>
        <p:spPr>
          <a:xfrm>
            <a:off x="771840" y="555120"/>
            <a:ext cx="7465320" cy="1373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(1913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Relación precisa entre velocidad inicial y [S]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ángulo 6"/>
          <p:cNvSpPr/>
          <p:nvPr/>
        </p:nvSpPr>
        <p:spPr>
          <a:xfrm>
            <a:off x="455760" y="2344320"/>
            <a:ext cx="8424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Comic Sans MS"/>
              </a:rPr>
              <a:t>Constante de Michaelis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( Km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Es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aracterístic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 una enzima y su sustrato particular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Reflej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afinidad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l sustrato por la enzim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Km es numéricamente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oncentración del sustrato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que corresponde a una velocidad de reacción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mitad de la velocidad máxim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En condiciones definidas de pH, T°C, </a:t>
            </a:r>
            <a:r>
              <a:rPr b="1" lang="es-MX" sz="2200" spc="-1" strike="noStrike">
                <a:solidFill>
                  <a:srgbClr val="ffff00"/>
                </a:solidFill>
                <a:latin typeface="Comic Sans MS"/>
              </a:rPr>
              <a:t>Km tiene un valor fijo para cada enzima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y sirve para caracterizarl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4500720" y="476280"/>
            <a:ext cx="4535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Orden de la reacció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enor a Km, la velocidad de reacción es proporcional a la [S]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primer orde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ayor a Km, la velocidad de reacción es constante e igual a Vma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orden c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 la concentración de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4140360" cy="378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77720" y="4265640"/>
            <a:ext cx="323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ángulo 4"/>
          <p:cNvSpPr/>
          <p:nvPr/>
        </p:nvSpPr>
        <p:spPr>
          <a:xfrm>
            <a:off x="1479240" y="180000"/>
            <a:ext cx="61426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omic Sans MS"/>
              </a:rPr>
              <a:t>Cinética del estado estacionario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1" name="Grupo 17"/>
          <p:cNvGrpSpPr/>
          <p:nvPr/>
        </p:nvGrpSpPr>
        <p:grpSpPr>
          <a:xfrm>
            <a:off x="755640" y="981000"/>
            <a:ext cx="7776720" cy="1266120"/>
            <a:chOff x="755640" y="981000"/>
            <a:chExt cx="7776720" cy="1266120"/>
          </a:xfrm>
        </p:grpSpPr>
        <p:sp>
          <p:nvSpPr>
            <p:cNvPr id="162" name="Cuadro de texto 6"/>
            <p:cNvSpPr/>
            <p:nvPr/>
          </p:nvSpPr>
          <p:spPr>
            <a:xfrm>
              <a:off x="661896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P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Cuadro de texto 7"/>
            <p:cNvSpPr/>
            <p:nvPr/>
          </p:nvSpPr>
          <p:spPr>
            <a:xfrm>
              <a:off x="4327200" y="1273320"/>
              <a:ext cx="21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Cuadro de texto 8"/>
            <p:cNvSpPr/>
            <p:nvPr/>
          </p:nvSpPr>
          <p:spPr>
            <a:xfrm>
              <a:off x="75564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 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Cuadro de texto 9"/>
            <p:cNvSpPr/>
            <p:nvPr/>
          </p:nvSpPr>
          <p:spPr>
            <a:xfrm>
              <a:off x="2926080" y="981000"/>
              <a:ext cx="102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Cuadro de texto 10"/>
            <p:cNvSpPr/>
            <p:nvPr/>
          </p:nvSpPr>
          <p:spPr>
            <a:xfrm>
              <a:off x="2921760" y="1841400"/>
              <a:ext cx="681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Cuadro de texto 11"/>
            <p:cNvSpPr/>
            <p:nvPr/>
          </p:nvSpPr>
          <p:spPr>
            <a:xfrm>
              <a:off x="5475240" y="1045080"/>
              <a:ext cx="101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8" name="Grupo 12"/>
            <p:cNvGrpSpPr/>
            <p:nvPr/>
          </p:nvGrpSpPr>
          <p:grpSpPr>
            <a:xfrm>
              <a:off x="2795760" y="1501200"/>
              <a:ext cx="1019160" cy="228960"/>
              <a:chOff x="2795760" y="1501200"/>
              <a:chExt cx="1019160" cy="228960"/>
            </a:xfrm>
          </p:grpSpPr>
          <p:sp>
            <p:nvSpPr>
              <p:cNvPr id="169" name="Línea 13"/>
              <p:cNvSpPr/>
              <p:nvPr/>
            </p:nvSpPr>
            <p:spPr>
              <a:xfrm>
                <a:off x="2796120" y="1501200"/>
                <a:ext cx="1015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Línea 14"/>
              <p:cNvSpPr/>
              <p:nvPr/>
            </p:nvSpPr>
            <p:spPr>
              <a:xfrm flipH="1">
                <a:off x="2795760" y="1730160"/>
                <a:ext cx="1019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71" name="Línea 15"/>
            <p:cNvSpPr/>
            <p:nvPr/>
          </p:nvSpPr>
          <p:spPr>
            <a:xfrm>
              <a:off x="5348160" y="1613880"/>
              <a:ext cx="101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2" name="Imagen 18" descr=""/>
          <p:cNvPicPr/>
          <p:nvPr/>
        </p:nvPicPr>
        <p:blipFill>
          <a:blip r:embed="rId1"/>
          <a:stretch/>
        </p:blipFill>
        <p:spPr>
          <a:xfrm>
            <a:off x="493560" y="2887560"/>
            <a:ext cx="3456000" cy="1592280"/>
          </a:xfrm>
          <a:prstGeom prst="rect">
            <a:avLst/>
          </a:prstGeom>
          <a:ln w="0">
            <a:noFill/>
          </a:ln>
        </p:spPr>
      </p:pic>
      <p:sp>
        <p:nvSpPr>
          <p:cNvPr id="173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ángulo 21"/>
          <p:cNvSpPr/>
          <p:nvPr/>
        </p:nvSpPr>
        <p:spPr>
          <a:xfrm>
            <a:off x="360720" y="5089320"/>
            <a:ext cx="4502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1" i="1" lang="es-AR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inicial de la reac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máx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Máx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Km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stante de Michael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[S]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centración del sustr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Imagen 2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821040" cy="3052800"/>
          </a:xfrm>
          <a:prstGeom prst="rect">
            <a:avLst/>
          </a:prstGeom>
          <a:ln w="0">
            <a:noFill/>
          </a:ln>
        </p:spPr>
      </p:pic>
      <p:sp>
        <p:nvSpPr>
          <p:cNvPr id="176" name="1 CuadroTexto"/>
          <p:cNvSpPr/>
          <p:nvPr/>
        </p:nvSpPr>
        <p:spPr>
          <a:xfrm>
            <a:off x="6330600" y="20210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Reacción de orden ce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77" name="3 Conector angular"/>
          <p:cNvCxnSpPr/>
          <p:nvPr/>
        </p:nvCxnSpPr>
        <p:spPr>
          <a:xfrm flipH="1" rot="16200000">
            <a:off x="7940520" y="240516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4 Rectángulo"/>
          <p:cNvSpPr/>
          <p:nvPr/>
        </p:nvSpPr>
        <p:spPr>
          <a:xfrm>
            <a:off x="6467400" y="4259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Imagen 18" descr=""/>
          <p:cNvPicPr/>
          <p:nvPr/>
        </p:nvPicPr>
        <p:blipFill>
          <a:blip r:embed="rId3"/>
          <a:stretch/>
        </p:blipFill>
        <p:spPr>
          <a:xfrm>
            <a:off x="5576760" y="4275000"/>
            <a:ext cx="104328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CuadroTexto"/>
          <p:cNvSpPr/>
          <p:nvPr/>
        </p:nvSpPr>
        <p:spPr>
          <a:xfrm>
            <a:off x="250920" y="692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 ecuación de Michaelis- Menten puede ser transformada algebraicamente en ecuaciones utilizables para la determinación práctica del valor de K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decir, transformamos matemáticamente una curva hiperbólica en una rect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Al invertir la ecuación de Michaelis- Menten se obtiene la ecuación de una recta llamad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INEWEAVER-BU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 de texto 4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transformaciones bioquímicas en los seres vivo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ocurr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Cuadro de texto 5"/>
          <p:cNvSpPr/>
          <p:nvPr/>
        </p:nvSpPr>
        <p:spPr>
          <a:xfrm>
            <a:off x="539640" y="1700280"/>
            <a:ext cx="817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 gran velocida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on gran especificida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condiciones muy moderadas de temperatura, pH, presión, et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Cuadro de texto 6"/>
          <p:cNvSpPr/>
          <p:nvPr/>
        </p:nvSpPr>
        <p:spPr>
          <a:xfrm>
            <a:off x="755640" y="4076640"/>
            <a:ext cx="7632720" cy="1191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Un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catalizador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es una sustancia capaz de acelerar una reacción química sin formar parte de los productos finales ni desgastarse en el proces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ángulo 5"/>
          <p:cNvSpPr/>
          <p:nvPr/>
        </p:nvSpPr>
        <p:spPr>
          <a:xfrm>
            <a:off x="1873800" y="25956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LINEWEAVER-BU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Imagen 6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826160" cy="165132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7" descr=""/>
          <p:cNvPicPr/>
          <p:nvPr/>
        </p:nvPicPr>
        <p:blipFill>
          <a:blip r:embed="rId2"/>
          <a:srcRect l="0" t="0" r="6045" b="0"/>
          <a:stretch/>
        </p:blipFill>
        <p:spPr>
          <a:xfrm>
            <a:off x="5651640" y="2997360"/>
            <a:ext cx="328284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Cuadro de texto 25"/>
          <p:cNvSpPr/>
          <p:nvPr/>
        </p:nvSpPr>
        <p:spPr>
          <a:xfrm>
            <a:off x="71280" y="3016080"/>
            <a:ext cx="518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rdenada al origen = 1/V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áx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Cuadro de texto 27"/>
          <p:cNvSpPr/>
          <p:nvPr/>
        </p:nvSpPr>
        <p:spPr>
          <a:xfrm>
            <a:off x="147600" y="3686040"/>
            <a:ext cx="5113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sección c/eje x = - 1/K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1 CuadroTexto"/>
          <p:cNvSpPr/>
          <p:nvPr/>
        </p:nvSpPr>
        <p:spPr>
          <a:xfrm>
            <a:off x="39600" y="436572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valor de km guarda relación inversa con la afinidad de l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 por el 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A MAYOR AFINIDAD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MENOR VALOR DE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 de texto 4"/>
          <p:cNvSpPr/>
          <p:nvPr/>
        </p:nvSpPr>
        <p:spPr>
          <a:xfrm>
            <a:off x="3419640" y="549360"/>
            <a:ext cx="2160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Cuadro de texto 5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os 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catalizadores biológico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son macromoléculas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Cuadro de texto 6"/>
          <p:cNvSpPr/>
          <p:nvPr/>
        </p:nvSpPr>
        <p:spPr>
          <a:xfrm>
            <a:off x="684360" y="44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ctividad catalítica: depende de la integridad de su conformación proteica nativ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Cuadro de texto 7"/>
          <p:cNvSpPr/>
          <p:nvPr/>
        </p:nvSpPr>
        <p:spPr>
          <a:xfrm>
            <a:off x="826920" y="25574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mayoría de las enzimas son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con la excepción de un pequeño grupo de moléculas de RNA catalítico,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ribo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782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OTEINAS y RNA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(Ribozimas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ructura terciaria y cuaterna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DE UNION AL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Uniones no Covalentes (puente de hidrógeno, hidrofóbicas, electrostátic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NECESITAN DE FACTORES 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norgánicos (metales) y orgánicos (Coenzim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SPECIFICIDAD DE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éreo-especificidad y especificidad  geomét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ON REGULAB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La síntesis de la proteína, su actividad y degrad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2 Rectángulo"/>
          <p:cNvSpPr/>
          <p:nvPr/>
        </p:nvSpPr>
        <p:spPr>
          <a:xfrm>
            <a:off x="1187280" y="2919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ISTICAS DE LAS ENZIMA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MPARTIMENTALIZACION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Diferente localización dentro de la célul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STEMAS MULTI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Enzimas relacionadas agrupadas formando verdaderos complejo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NZIMAS MULTIFUNCIONA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Una enzima que presenta varios sitios catalíticos distintos en una misma cadena polipeptíd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97164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ISTRIBUCION 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141120" y="227664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xido-redu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otura y formación de enlaces C-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organizaciones intern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Transferencia de grup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acciones de condens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1258920" y="5493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Tipos de reacciones catalizadas por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4"/>
          <p:cNvSpPr/>
          <p:nvPr/>
        </p:nvSpPr>
        <p:spPr>
          <a:xfrm>
            <a:off x="250920" y="333360"/>
            <a:ext cx="860400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NOMENCLATURA Y CLASIFICACIÓN DE ENZIMAS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Cuadro de texto 5"/>
          <p:cNvSpPr/>
          <p:nvPr/>
        </p:nvSpPr>
        <p:spPr>
          <a:xfrm>
            <a:off x="395280" y="1603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nombre de uso cotidia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Cuadro de texto 6"/>
          <p:cNvSpPr/>
          <p:nvPr/>
        </p:nvSpPr>
        <p:spPr>
          <a:xfrm>
            <a:off x="1332000" y="2305080"/>
            <a:ext cx="640872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+ nombre del sustrato de la reacción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Cuadro de texto 7"/>
          <p:cNvSpPr/>
          <p:nvPr/>
        </p:nvSpPr>
        <p:spPr>
          <a:xfrm>
            <a:off x="1330200" y="32259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jemplo: sacar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ure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amil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etc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Cuadro de texto 8"/>
          <p:cNvSpPr/>
          <p:nvPr/>
        </p:nvSpPr>
        <p:spPr>
          <a:xfrm>
            <a:off x="0" y="39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arbitrari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ptialina salival, pepsina del jugo gástrico, etc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Cuadro de texto 9"/>
          <p:cNvSpPr/>
          <p:nvPr/>
        </p:nvSpPr>
        <p:spPr>
          <a:xfrm>
            <a:off x="324000" y="537372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según el tipo de reacción catalizad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deshidrogenasas, carboxilasa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54:11Z</dcterms:created>
  <dc:creator>Nuria</dc:creator>
  <dc:description/>
  <dc:language>en-US</dc:language>
  <cp:lastModifiedBy>Preferred Customer</cp:lastModifiedBy>
  <dcterms:modified xsi:type="dcterms:W3CDTF">2014-08-27T18:21:23Z</dcterms:modified>
  <cp:revision>213</cp:revision>
  <dc:subject/>
  <dc:title>Diapositiva 1</dc:title>
</cp:coreProperties>
</file>